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C73-CC39-46A5-81CD-559BEDA9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3C4B-994E-4F76-A944-A0FC882A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27AA-A076-41A6-A272-72E5074E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75A-A009-4BA9-87C6-3E7567A4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E05-CF99-4422-90EA-4E1D8AE3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63A-D118-4EF1-9DE2-CFE9A1FB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A8A-2030-4035-8DE0-0EEB5006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C64-3DA1-46C4-B038-AC075290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D67-E2C1-49AA-A4F7-080F35BA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83C-77BA-4C2A-8E8F-EECF2ECF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1F3-5E67-4CE4-834B-DFDB1850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048-5B38-4B2E-A0F0-D8149963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F0F7-6FE3-428E-A80F-5894186094B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-physical and socio-economic bench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keholder surve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oeconomic and biophysical bench marks from RC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ield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er to peer vis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monstration sites on selected farmers land and farming land sc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udio and vid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sters, 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isit to successful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dio and news paper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hibitions and exp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monstrate new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thiopian Agricultural Portal(EAP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ith wh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T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earch cent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GIAR (ICRAF, ILRI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ional partners (MoA, BoA, NGO and civic societies) 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frica  is rising!!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physica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oil degradation status and manage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Vegetation cover and diversity (spatial distribu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water availability(Irrigation, ponds, poatble water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eed sources and availabilit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ivestock resources and produ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mproved crop varieties (fodder, fruit, legume, vegetables, cereal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ersity and level of intensif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isting infrastructure (FTC, road, market, telecommunication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?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1920" y="7617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ocioeconomic Bench mark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velihood status (vulnerability, food secur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ome sources ( on farm and off f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use hold size and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ducational sta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vailability of lab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operatives (saving and credit, consumer associations, multipurpose) and local institu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vel of ecological knowledge and innovative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design and introduce appropriate intervention options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o identify gaps,barriers,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pportunities and fill the ga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aling up and out of best local practic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tributes to RC3, 4, 5, 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monitoring and evalu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520" y="1294920"/>
            <a:ext cx="86108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ticipatory resource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y informant discussion and int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condary in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keholder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KT5 softw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E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whom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Regional research institut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participate in the design, implementation and M and E of the project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ocal administr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 Community mobilization and political backstopp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Bureau of Agricultur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secondary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ivestock resource development and health agenci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Oromia and Amhara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Cooperatives and microfinance institutio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facilitate access to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ILR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,  ICRA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ocio economic bench marks ICRAF/Biophysical characterisation and list of existing tec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ity knowledge exchange groups (CKEGs</a:t>
            </a: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)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Identify, characterise,  capacitate  existing community institutions (formal and informal)- Gender and age based organisatio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 Development groups (men, women , youth); Farmers association community leaders and el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Establish CKEGs as appropriate Farmers research  extension groups community based breeding scheme (Oromia and South re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share and disseminate knowledge, skill  lessons, opportunities and challen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plan interventio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aling up and out best bet indigenous and exogenous te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introduce demonstrate appropriate technolog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tribution to RC 3, 4, 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9:09:01Z</dcterms:created>
  <dc:creator>Asrat</dc:creator>
  <dc:description/>
  <dc:language>en-US</dc:language>
  <cp:lastModifiedBy>Asrat</cp:lastModifiedBy>
  <dcterms:modified xsi:type="dcterms:W3CDTF">2013-02-14T05:59:33Z</dcterms:modified>
  <cp:revision>4</cp:revision>
  <dc:subject/>
  <dc:title>Bio-physical and socio-economic benchmarks</dc:title>
</cp:coreProperties>
</file>